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BB77-884D-434D-8EC5-3B90C3A31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868A-4C63-431B-A77A-71E357308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DFB6-D000-4939-B1AE-DF8B668D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17F-26B1-4010-B3C6-5F2B4A1D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B41A-90D6-4B65-9E40-03E7B2C3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4EA4-582C-4DC6-9769-4E40637D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C5A0-90F1-447A-876E-E6437CE6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2352-0AE9-47E1-AF27-E8E3BA14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CE9E-9627-459B-B66A-848F1E08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F4E6-B9EA-4CF0-A83A-A8C3694F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A959-83D3-4D08-9A3E-EFC448A3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BA42-70D3-4ABE-B060-2042CCE0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755F-F0D7-494B-A750-7C1A1089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6C57-CDF3-4BB4-BB49-0B242381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53B0-2C08-4240-992F-B1A0312A2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5 Which of the following religions diffused primarily through armed conqu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ik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hinto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5 Which of the following religions diffused primarily through armed conqu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ik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hinto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6 __________ consider solstices to be holy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uddh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J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nfuc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hrist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a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6 __________ consider solstices to be holy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uddh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J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nfuc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hrist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Pa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7 _________ typically favors cremation over bu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ao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7 _________ typically favors cremation over bu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ao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8 What is the second-highest rank within the Roman Catholic hierarc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rchbish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ish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ard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ri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8 What is the second-highest rank within the Roman Catholic hierarc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rchbish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ish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Cardi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ri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9 The caste system in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lac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ud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top of the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as created by the Aryan invaders of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oes not affect how individual Hindus practi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enforced by official government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ees the “untouchables” as closest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lighte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9 The caste system in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lac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ud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top of the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Was created by the Aryan invaders of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oes not affect how individual Hindus practi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enforced by official government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ees the “untouchables” as closest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lighte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1 Which of the following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universalizing reli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ik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10 Which three religions have holy places in Jerusa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ikhism, Islam,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slam, Christianity, 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induism, Sikhism, 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lam, Christianity,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Jainism, Christianity,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10 Which three religions have holy places in Jerusa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ikhism, Islam,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slam, Christianity, 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induism, Sikhism, 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Islam, Christianity,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Jainism, Christianity,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06_15"/>
          <p:cNvPicPr/>
          <p:nvPr/>
        </p:nvPicPr>
        <p:blipFill>
          <a:blip r:embed="rId1"/>
          <a:stretch/>
        </p:blipFill>
        <p:spPr>
          <a:xfrm>
            <a:off x="1981080" y="685800"/>
            <a:ext cx="4800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1 Which of the following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universalizing reli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ik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2 Roman Catholicism predominate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n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2 Roman Catholicism predominate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n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3 Which of the following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of the five pillars of Isl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ccept Allah as the one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onate to cha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ast during the month of Ramad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ake a pilgrimage to Jerusa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ray five time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3 Which of the following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of the five pillars of Isl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ccept Allah as the one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onate to cha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ast during the month of Ramad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Make a pilgrimage to Jerusa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ray five time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4 In which region are ethnic religions most widely practi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4 In which region are ethnic religions most widely practi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nity Rain</cp:lastModifiedBy>
  <dcterms:modified xsi:type="dcterms:W3CDTF">2011-04-24T22:51:04Z</dcterms:modified>
  <cp:revision>83</cp:revision>
  <dc:subject/>
  <dc:title>CRS Chapter 4</dc:title>
</cp:coreProperties>
</file>